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5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5C0-BC45-4E18-9877-7A62C607F4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boratorio de Sistemas Discretos Automatización e Integr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1353-7091-4F26-9425-28A434F4FD7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278C-96B7-431E-94CF-0DBB8B660D3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67B-138D-4CCA-B01A-CAFA224911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8353-EF0B-45AC-84E8-01E0E2DCE5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998A-797C-4969-8092-BD3FE690F1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BB6B-F9EF-4C40-B2CE-03463B9E0D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C52-8650-4F1D-A29D-67BD5C3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289-B69A-4EC0-8C16-2518D65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37B-04F5-499F-B79D-083F64E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491-678E-4C3C-A2E6-18060A7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8252-0941-4046-9BEB-881B61AE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394-52E7-40E7-8E07-05E27AE8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454-8C58-4292-82A2-FE77F57C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2827-36BE-46EF-8D5B-15E45067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8386-8EFB-45A3-B78A-CC639BE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50E-F489-473C-9595-AE66E81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4522-ED3F-49BB-9642-8FA6DFD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9D4-B082-4335-B063-B2ED93E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B9C2-69F9-4869-B82A-38F47DA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67E-8044-4028-98FF-213B5766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458-3B35-4058-883F-8AB47FB6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020B-EAA2-4843-B363-702088E1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670-2B92-473E-8EC1-7D391857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D924-03C7-4CDD-84E7-EACFB6E2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08FE-CC8B-4FC6-81BE-9F46CBB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296D-1124-4195-9550-EC8656F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48059-8DBF-4638-96F1-A9DABAB8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5067-A1B5-44E4-A850-7495ACA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E4E-369F-4E5D-ACC5-E9A6B6A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E4B4-9768-4900-A16A-9CC587E6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A617-6D38-4C69-B814-8932912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0DD4-3699-4A48-8A77-A4C7B75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2472-76CD-4D38-8E80-AB317B7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ADF6-BB0D-441D-B167-1D17A3E4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2E49-E114-4AB6-A611-EB65646F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16C9-CEA9-49B4-BEDA-5DF2F29D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0B5E-ED53-45A8-AAFD-CF54096C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CC17-3C92-4FEF-BD0C-6058E415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F25A-71A0-43F4-85CB-FA4066F9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053-D616-4402-895F-B828B5BA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604D-A799-4D83-8C60-E736502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305C-1AE3-4DA2-BF1B-0F16E8B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D158-44AB-47D3-81A6-D1061E2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31CA-5FBE-4F0B-8A06-A5DF3A3F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2A32-68B9-4CE6-9394-24872FC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A383-0311-42CD-9BB2-EA0EF249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C57A-9B4C-4132-B42C-A303FD2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52CE-A4B1-4803-96FB-E69FB365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C9F3-0926-41C5-8C9C-43C0CC16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B479-603E-409E-9C05-B243B604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C98-9F50-4379-8DE9-F25A202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7E392-5477-4119-A161-572F64B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3A609-FD0F-4E7A-9038-8994E36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867C-9E86-443A-830A-1B327D10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631C-2CE6-4364-92AF-756EC58F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1EB1-75A6-40CD-BB56-0A30D65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91F6-E0A1-4E2A-AFAE-86B6584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50F4-7D13-433D-92BE-6DFC19F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B5ED8-8CBE-4BC4-93E5-84C54E6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78CF-81EB-4C54-8921-4F8DCC9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AE82-CE26-4F25-8620-CDC6FAA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3DD-2360-4998-ADF1-19F35B8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2904-2206-4B80-893F-AF41D2E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552-03B7-4BC9-8C97-480FBCB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77B-24CF-4DB5-A9B6-B047728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200-DA5D-4C90-BE2C-C2429CF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854-C9CA-40B3-8073-9939A574DCA2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C237-0D5D-4A10-AC3C-1B31541B671A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9A96-6BA4-4FCF-B425-B351DEFD42AB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5CA-D092-4314-9E0B-5ADDF57DD150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AD7-75D2-43AB-9792-078CB0FDC2EE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youtube.com/watch?v=19D90UM58aQ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324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Problemas de morfología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4 Rectángulo"/>
          <p:cNvSpPr/>
          <p:nvPr/>
        </p:nvSpPr>
        <p:spPr>
          <a:xfrm>
            <a:off x="468360" y="549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Robótica Industr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Curso 2010-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Grado de Electrónica Industrial y Automátic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132000" y="5516640"/>
            <a:ext cx="28800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20200" y="404640"/>
            <a:ext cx="818388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Reductore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umentar el par motor con un peso simi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umentar la precisión en la medición del giro del eje sin introducir juegos mecán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3 Imagen" descr=""/>
          <p:cNvPicPr/>
          <p:nvPr/>
        </p:nvPicPr>
        <p:blipFill>
          <a:blip r:embed="rId1"/>
          <a:stretch/>
        </p:blipFill>
        <p:spPr>
          <a:xfrm>
            <a:off x="6443640" y="2349360"/>
            <a:ext cx="1922400" cy="1339920"/>
          </a:xfrm>
          <a:prstGeom prst="rect">
            <a:avLst/>
          </a:prstGeom>
          <a:ln w="0">
            <a:noFill/>
          </a:ln>
        </p:spPr>
      </p:pic>
      <p:sp>
        <p:nvSpPr>
          <p:cNvPr id="276" name="4 CuadroTexto"/>
          <p:cNvSpPr/>
          <p:nvPr/>
        </p:nvSpPr>
        <p:spPr>
          <a:xfrm>
            <a:off x="6300720" y="384336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Foto: Wikip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7" name="5 Objeto"/>
          <p:cNvGraphicFramePr/>
          <p:nvPr/>
        </p:nvGraphicFramePr>
        <p:xfrm>
          <a:off x="971640" y="2817720"/>
          <a:ext cx="2041560" cy="58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5 Objet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817720"/>
                    <a:ext cx="20415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7 Objeto"/>
          <p:cNvGraphicFramePr/>
          <p:nvPr/>
        </p:nvGraphicFramePr>
        <p:xfrm>
          <a:off x="3851280" y="2565360"/>
          <a:ext cx="1887480" cy="9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7 Objeto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2565360"/>
                    <a:ext cx="18874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FF4-72FB-403C-A489-CCAE3233B7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2798640"/>
            <a:ext cx="7619760" cy="323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V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t) s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V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t) 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Sistema sensorial: Resolvers</a:t>
            </a: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84480" y="0"/>
            <a:ext cx="48355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2411280" y="1528920"/>
            <a:ext cx="4740480" cy="49100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5003640" y="4221000"/>
            <a:ext cx="112428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692440" y="2940120"/>
            <a:ext cx="97956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99000" y="2933640"/>
            <a:ext cx="979560" cy="1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624120" y="3722760"/>
            <a:ext cx="130680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624120" y="3722760"/>
            <a:ext cx="130680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444760" y="4221000"/>
            <a:ext cx="179532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692440" y="6021360"/>
            <a:ext cx="179532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4648320" y="6165720"/>
            <a:ext cx="179532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lasificación de los robots</a:t>
            </a:r>
            <a:br>
              <a:rPr sz="2800"/>
            </a:b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según su geometrí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376960" cy="4833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lasificación </a:t>
            </a: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AFNOR E04-E015 de los pares </a:t>
            </a: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inemático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404640" y="1143000"/>
            <a:ext cx="8248680" cy="4083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figuraciones tipo para los brazo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187280" y="1249200"/>
            <a:ext cx="432144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525600" y="1089000"/>
            <a:ext cx="7964280" cy="326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979560" y="4245120"/>
            <a:ext cx="5387760" cy="2228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75920"/>
            <a:ext cx="8183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figuraciones tipo para los brazo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503280" y="488880"/>
            <a:ext cx="668016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70000" y="2776680"/>
            <a:ext cx="6913440" cy="2003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326880" y="4898880"/>
            <a:ext cx="4081680" cy="1633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4572000" y="4898880"/>
            <a:ext cx="3917880" cy="1795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539640" y="488880"/>
            <a:ext cx="431964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figuraciones tipo para las muñeca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0280" y="504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lgunos sistemas de trasmisión (I)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05920" y="1483920"/>
            <a:ext cx="5389560" cy="3854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aralelogra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ctuadores más cerca de la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 reduce el peso y la inercia del braz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ayor capacidad de carg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pacio de trabajo limi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5845320" y="1700280"/>
            <a:ext cx="2863800" cy="4584600"/>
          </a:xfrm>
          <a:prstGeom prst="rect">
            <a:avLst/>
          </a:prstGeom>
          <a:ln w="0">
            <a:noFill/>
          </a:ln>
        </p:spPr>
      </p:pic>
      <p:sp>
        <p:nvSpPr>
          <p:cNvPr id="257" name="3 CuadroTexto"/>
          <p:cNvSpPr/>
          <p:nvPr/>
        </p:nvSpPr>
        <p:spPr>
          <a:xfrm>
            <a:off x="5845320" y="6126120"/>
            <a:ext cx="28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RB 44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6 CuadroTexto">
            <a:hlinkClick r:id="rId2"/>
          </p:cNvPr>
          <p:cNvSpPr/>
          <p:nvPr/>
        </p:nvSpPr>
        <p:spPr>
          <a:xfrm>
            <a:off x="1116000" y="5987880"/>
            <a:ext cx="22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0000"/>
                </a:solidFill>
                <a:uFillTx/>
                <a:latin typeface="Verdana"/>
              </a:rPr>
              <a:t>Ver video de ABB Robotic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0000"/>
                </a:solidFill>
                <a:uFillTx/>
                <a:latin typeface="Verdana"/>
              </a:rPr>
              <a:t>Comparación ent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0000"/>
                </a:solidFill>
                <a:uFillTx/>
                <a:latin typeface="Verdana"/>
              </a:rPr>
              <a:t>IRB 4600 y IRB 4400 (simulación)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62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8d3e"/>
                </a:solidFill>
                <a:latin typeface="Verdana"/>
              </a:rPr>
              <a:t>Algunos</a:t>
            </a: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 sistemas de trasmisión (II)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usi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092400" cy="2320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826920" y="2436840"/>
            <a:ext cx="3341880" cy="3279600"/>
          </a:xfrm>
          <a:prstGeom prst="rect">
            <a:avLst/>
          </a:prstGeom>
          <a:ln w="0">
            <a:noFill/>
          </a:ln>
        </p:spPr>
      </p:pic>
      <p:sp>
        <p:nvSpPr>
          <p:cNvPr id="263" name="5 CuadroTexto"/>
          <p:cNvSpPr/>
          <p:nvPr/>
        </p:nvSpPr>
        <p:spPr>
          <a:xfrm>
            <a:off x="5759280" y="5229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ea IRB-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8d3e"/>
                </a:solidFill>
                <a:latin typeface="Verdana"/>
              </a:rPr>
              <a:t>Algunos</a:t>
            </a: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 sistemas de trasmisión (III)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iñón-cremall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3 Imagen" descr=""/>
          <p:cNvPicPr/>
          <p:nvPr/>
        </p:nvPicPr>
        <p:blipFill>
          <a:blip r:embed="rId1"/>
          <a:stretch/>
        </p:blipFill>
        <p:spPr>
          <a:xfrm>
            <a:off x="5799240" y="1938240"/>
            <a:ext cx="2171520" cy="2347920"/>
          </a:xfrm>
          <a:prstGeom prst="rect">
            <a:avLst/>
          </a:prstGeom>
          <a:ln w="0">
            <a:noFill/>
          </a:ln>
        </p:spPr>
      </p:pic>
      <p:sp>
        <p:nvSpPr>
          <p:cNvPr id="267" name="4 CuadroTexto"/>
          <p:cNvSpPr/>
          <p:nvPr/>
        </p:nvSpPr>
        <p:spPr>
          <a:xfrm>
            <a:off x="5767560" y="443376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Foto: Wikip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5 CuadroTexto"/>
          <p:cNvSpPr/>
          <p:nvPr/>
        </p:nvSpPr>
        <p:spPr>
          <a:xfrm>
            <a:off x="1258920" y="522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lación de trasmis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1225440" y="25653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70" name="9 CuadroTexto"/>
          <p:cNvSpPr/>
          <p:nvPr/>
        </p:nvSpPr>
        <p:spPr>
          <a:xfrm>
            <a:off x="2714760" y="3630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10 CuadroTexto"/>
          <p:cNvSpPr/>
          <p:nvPr/>
        </p:nvSpPr>
        <p:spPr>
          <a:xfrm>
            <a:off x="2425680" y="4249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140360" y="532116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el radio del piñón y </a:t>
            </a:r>
            <a:r>
              <a:rPr b="0" i="1" lang="el-GR" sz="1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á expresado en revolucion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28:43Z</dcterms:created>
  <dc:creator>ppierro</dc:creator>
  <dc:description/>
  <dc:language>en-US</dc:language>
  <cp:lastModifiedBy>ppierro</cp:lastModifiedBy>
  <dcterms:modified xsi:type="dcterms:W3CDTF">2011-02-02T11:44:50Z</dcterms:modified>
  <cp:revision>12</cp:revision>
  <dc:subject/>
  <dc:title>Problemas de morfología</dc:title>
</cp:coreProperties>
</file>